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58CD-CFD9-41F6-9C6A-559BCD67180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3DF1-62C3-4FFC-A584-80E84BB0BA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9DC0-DBC9-47EA-8875-2135C93753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6551-2E24-49EE-953A-942E729A5B4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56A5-66F2-4742-84E4-2D43D4FBD5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C730-C3BD-4FF3-820D-97253752C4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FD03-C617-449B-B7D5-6EC3DC81644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5B93-B73E-45DF-81DF-70F12F29C1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88CC-EF3F-4427-B64E-5DBF9E1FC9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13F4-CC8E-48BC-AC85-5A8A505B9A5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0C19-42F7-4D42-A236-FF7590C4BA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4C33-4C1D-4F6E-BE2D-CE9E486BAA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85A-75B1-4D4B-969F-757EAD6331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0736-E90C-4ABC-97B0-EEDA67B30BC7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AC63-3C9C-4886-B1BB-0042156B099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189080"/>
            <a:ext cx="777708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kontroli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lecenia pokontrolne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bre przykłady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chrona danych osobowy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078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szkoleniach i przeprowadzonym doradztwie wskazane jest badanie satysfakcji uczestników w formie ank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ość stron internetowych LGD, pozwalające sprawnie uzyskać informacje np. deklaracja członkostwa powinna być od razu widoc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bre praktyk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419040" y="170028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e procedury, kryteria i rejestry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howywanie dokumentów – zabezpieczone dokume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doczne oznakowanie biura i godzin pracy umieszczone na zewnątrz budy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ście prowadzone strony internetowe pozwalające na sprawne uzyskanie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chrona danych osobow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419040" y="1700280"/>
            <a:ext cx="8221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LGD powinna mieć Politykę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enie AB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jestr osób upoważnionych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a imienne dla pracowników oraz członków Rady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e do przetwarzania danych osobowych nie jest jednoznaczne z deklaracją bezstronności i poufności (członkowie Rady i pracownicy LGD winni posiadać upoważnienia do przetwarzania danych oraz podpisywać w/w deklaracj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e z ustawą zabezpieczenie danych osobowych, w  tym właściwe przechowywanie dokument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yskiwanie zgody wnioskodawców na przetwarzanie ich danych osob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76640" y="3716280"/>
            <a:ext cx="33753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dzień 30.11.2017 r. przeprowadzono i zakończono kontrolę w 8 LGD, pozostałe 8 LGD będą skontrolowane do końca 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dmiot kontroli – Zobowiązania wynikające  z § 5 Umowy Ramowej tj. m.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ałanie i utrzymanie biura (godziny pracy umieszczo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docznym miejscu przed biurem oraz na stronie internetowej), zabezpieczenie biura i dokumentów, Polityka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ownicy (kwalifikacje,  świadczenie prac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kolenia pracowników i członków rady decyzyjne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trzymanie i aktualizacja strony internetow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ezpłatne świadczenie doradztwa (rejestry, ankiety satysfakcj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wszechnianie  informacji o zasadach przyznawania pomocy poprzez szkolenia, stronę internetową oraz kontakt telefonicz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ezpośredni (ankiety, oceny szkole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bory (próba losowo wybranych wnios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procedur do nabor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R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Biu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tut, członkostwo w LGD – zapewnienie swobodnego dostępu do członko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190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potwierdzanie za zgodność z oryginałem dokumentów oraz informowanie wnioskodawców o prawidłowym potwierdzaniu za zgodność przez wymienione w Rozporządzeniu podmi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twierdzanie za zgodn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2"/>
          <p:cNvSpPr/>
          <p:nvPr/>
        </p:nvSpPr>
        <p:spPr>
          <a:xfrm>
            <a:off x="4078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sporządzanie listy operacji wybranych, jeżeli operacje  są zgodne z LSR a nie mieszczą się w limicie winny się znaleźć na liście operacji wybranych z adnotacją „ nie mieści się w limic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y operac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366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ewnictwo w tytułowaniu uchwał – nieprawidłowo zatytułowane np. Uchwala w sprawie wybrania operacji… ,natomiast w treści dokumentu zapis „operacja nie została wybrana do finansowania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ytuły uchwa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41436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ste sporządzanie rejestru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rócenie uwagi na spójność dokumentów – np. dane z protokołu niezgodne z danymi w uchwał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ułowanie dokumentów w ten sposób aby na ostatniej stronie nie znajdowały się tylko pod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3952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 szkoleń – założenia adekwatne do możliwości real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eria wyboru – powinny być ustalane w sposób zrozumiały, realny i nie budujący wątpliwości z punktu widzenia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41904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egulowania dotyczące uzyskania przez dwu lub więcej wnioskodawców identycznej liczby punktów – jeżeli znaczenie ma godzina przyjęcia wniosku – należy wpisać dokładną godzinę przyjęcia wniosku (zdarzały się sytuacje, iż w LGD przyjęto kilka wniosków o dokładnie tej samej godzi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34Z</dcterms:modified>
  <cp:revision>912</cp:revision>
  <dc:subject/>
  <dc:title>Slajd 1</dc:title>
</cp:coreProperties>
</file>